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94D-CE47-44DE-A0EB-46A09886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EFA-B11D-4417-9F34-F3AF2A7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6AA-D6AF-4184-8BB8-88BC3CAD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F61-7017-4EB7-99B5-9C98341F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0EF-D20B-443F-840D-A59E7566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457-C04B-4D28-BEF4-AB39EF1A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86F-24CD-4FCD-83E0-24708A80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ED7-2619-480B-A55E-7F5BAF60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33E-ADC3-4482-AA0F-7248A232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09B-0831-43B3-A789-0A88CAD0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BD1-8D5C-47EA-B480-C00E3867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77B-D476-45D7-9CF1-5A64279E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A1A3-352D-4484-821A-6FA99E189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ich disease do you feel is the most dangerous?  Why?  Use information/statistics from the articles to support your opin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4 things you learned about this disease you did not know before researc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f you had plenty of money and wanted to donate to one of the disease’s research programs, which one would you choose?  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AGRAPH SHOULD BE AT LEAST 5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7:16Z</dcterms:created>
  <dc:creator>student</dc:creator>
  <dc:description/>
  <dc:language>en-US</dc:language>
  <cp:lastModifiedBy>student</cp:lastModifiedBy>
  <dcterms:modified xsi:type="dcterms:W3CDTF">2012-11-13T19:37:40Z</dcterms:modified>
  <cp:revision>1</cp:revision>
  <dc:subject/>
  <dc:title>Slide 1</dc:title>
</cp:coreProperties>
</file>